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F930-86F9-4CB7-9D61-8DE821E5F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C12E-3F44-4B28-8F9F-58B5D95B1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0BE5-0737-49E5-94CC-84DDFE997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C31A-F0DF-4272-81ED-5C6C03AA4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B5ED-2110-4B86-B838-D0C987983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13B2-699D-4CAF-B50A-0C6CF84FB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582B-DE15-44B4-971C-CFB4175DE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D6A3-B51C-4930-BB71-4EAA9BE5A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23AD-AFEB-4519-8F2F-0EC741719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10E3-E1CB-470B-9B4B-6E6DA062A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F8F9-0386-4E68-8A47-02579CB6D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A500-B349-40AC-80F2-3B152F4D3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9BDE34-8070-43A2-A7D6-9A965B05949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31 Grupo"/>
          <p:cNvGrpSpPr/>
          <p:nvPr/>
        </p:nvGrpSpPr>
        <p:grpSpPr>
          <a:xfrm>
            <a:off x="1908000" y="2349360"/>
            <a:ext cx="5257800" cy="650880"/>
            <a:chOff x="1908000" y="2349360"/>
            <a:chExt cx="5257800" cy="650880"/>
          </a:xfrm>
        </p:grpSpPr>
        <p:sp>
          <p:nvSpPr>
            <p:cNvPr id="55" name="Freeform 11"/>
            <p:cNvSpPr/>
            <p:nvPr/>
          </p:nvSpPr>
          <p:spPr>
            <a:xfrm>
              <a:off x="1908000" y="270828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1908000" y="2705040"/>
              <a:ext cx="1440" cy="29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" h="821">
                  <a:moveTo>
                    <a:pt x="0" y="820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7164360" y="2705040"/>
              <a:ext cx="1440" cy="29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" h="821">
                  <a:moveTo>
                    <a:pt x="0" y="82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4572000" y="2349360"/>
              <a:ext cx="1440" cy="358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5" h="998">
                  <a:moveTo>
                    <a:pt x="0" y="0"/>
                  </a:moveTo>
                  <a:lnTo>
                    <a:pt x="4" y="997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30 Grupo"/>
          <p:cNvGrpSpPr/>
          <p:nvPr/>
        </p:nvGrpSpPr>
        <p:grpSpPr>
          <a:xfrm>
            <a:off x="3492360" y="1268280"/>
            <a:ext cx="2087640" cy="1081080"/>
            <a:chOff x="3492360" y="1268280"/>
            <a:chExt cx="2087640" cy="1081080"/>
          </a:xfrm>
        </p:grpSpPr>
        <p:sp>
          <p:nvSpPr>
            <p:cNvPr id="60" name="AutoShape 8"/>
            <p:cNvSpPr/>
            <p:nvPr/>
          </p:nvSpPr>
          <p:spPr>
            <a:xfrm>
              <a:off x="3492360" y="12682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3563640" y="161892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33 Grupo"/>
          <p:cNvGrpSpPr/>
          <p:nvPr/>
        </p:nvGrpSpPr>
        <p:grpSpPr>
          <a:xfrm>
            <a:off x="900000" y="2997360"/>
            <a:ext cx="2519640" cy="1368360"/>
            <a:chOff x="900000" y="2997360"/>
            <a:chExt cx="2519640" cy="1368360"/>
          </a:xfrm>
        </p:grpSpPr>
        <p:sp>
          <p:nvSpPr>
            <p:cNvPr id="63" name="AutoShape 10"/>
            <p:cNvSpPr/>
            <p:nvPr/>
          </p:nvSpPr>
          <p:spPr>
            <a:xfrm>
              <a:off x="900000" y="2997360"/>
              <a:ext cx="2519640" cy="1368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6"/>
            <p:cNvSpPr/>
            <p:nvPr/>
          </p:nvSpPr>
          <p:spPr>
            <a:xfrm>
              <a:off x="971280" y="3141000"/>
              <a:ext cx="23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SIN PARTES ESPECIALIZADAS EN LA 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36 Grupo"/>
          <p:cNvGrpSpPr/>
          <p:nvPr/>
        </p:nvGrpSpPr>
        <p:grpSpPr>
          <a:xfrm>
            <a:off x="4788000" y="4221000"/>
            <a:ext cx="2738160" cy="650880"/>
            <a:chOff x="4788000" y="4221000"/>
            <a:chExt cx="2738160" cy="650880"/>
          </a:xfrm>
        </p:grpSpPr>
        <p:sp>
          <p:nvSpPr>
            <p:cNvPr id="66" name="Freeform 19"/>
            <p:cNvSpPr/>
            <p:nvPr/>
          </p:nvSpPr>
          <p:spPr>
            <a:xfrm>
              <a:off x="4788000" y="4581360"/>
              <a:ext cx="2736720" cy="1440"/>
            </a:xfrm>
            <a:custGeom>
              <a:avLst/>
              <a:gdLst>
                <a:gd name="textAreaLeft" fmla="*/ 0 w 2736720"/>
                <a:gd name="textAreaRight" fmla="*/ 2737080 w 2736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603" h="6">
                  <a:moveTo>
                    <a:pt x="0" y="0"/>
                  </a:moveTo>
                  <a:lnTo>
                    <a:pt x="7602" y="5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4788000" y="4578120"/>
              <a:ext cx="1440" cy="293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5" h="816">
                  <a:moveTo>
                    <a:pt x="0" y="815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7524720" y="4578120"/>
              <a:ext cx="1440" cy="293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5" h="816">
                  <a:moveTo>
                    <a:pt x="0" y="815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7227720" y="4221000"/>
              <a:ext cx="1440" cy="360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6" h="1002">
                  <a:moveTo>
                    <a:pt x="0" y="0"/>
                  </a:moveTo>
                  <a:lnTo>
                    <a:pt x="5" y="1001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34 Grupo"/>
          <p:cNvGrpSpPr/>
          <p:nvPr/>
        </p:nvGrpSpPr>
        <p:grpSpPr>
          <a:xfrm>
            <a:off x="3780000" y="4869000"/>
            <a:ext cx="2087280" cy="1081080"/>
            <a:chOff x="3780000" y="4869000"/>
            <a:chExt cx="2087280" cy="1081080"/>
          </a:xfrm>
        </p:grpSpPr>
        <p:sp>
          <p:nvSpPr>
            <p:cNvPr id="71" name="AutoShape 9"/>
            <p:cNvSpPr/>
            <p:nvPr/>
          </p:nvSpPr>
          <p:spPr>
            <a:xfrm>
              <a:off x="3780000" y="4869000"/>
              <a:ext cx="2087280" cy="1081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3"/>
            <p:cNvSpPr/>
            <p:nvPr/>
          </p:nvSpPr>
          <p:spPr>
            <a:xfrm>
              <a:off x="3780000" y="5084640"/>
              <a:ext cx="208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ÓRGANOS RESPIRATORI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35 Grupo"/>
          <p:cNvGrpSpPr/>
          <p:nvPr/>
        </p:nvGrpSpPr>
        <p:grpSpPr>
          <a:xfrm>
            <a:off x="6516720" y="4869000"/>
            <a:ext cx="2087640" cy="1081080"/>
            <a:chOff x="6516720" y="4869000"/>
            <a:chExt cx="2087640" cy="1081080"/>
          </a:xfrm>
        </p:grpSpPr>
        <p:sp>
          <p:nvSpPr>
            <p:cNvPr id="74" name="AutoShape 18">
              <a:hlinkClick r:id="rId2" action="ppaction://hlinksldjump"/>
            </p:cNvPr>
            <p:cNvSpPr/>
            <p:nvPr/>
          </p:nvSpPr>
          <p:spPr>
            <a:xfrm>
              <a:off x="6516720" y="486900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24">
              <a:hlinkClick r:id="rId3" action="ppaction://hlinksldjump"/>
            </p:cNvPr>
            <p:cNvSpPr/>
            <p:nvPr/>
          </p:nvSpPr>
          <p:spPr>
            <a:xfrm>
              <a:off x="6588000" y="50846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ÓRGANOS EXCRETO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Text Box 29"/>
          <p:cNvSpPr/>
          <p:nvPr/>
        </p:nvSpPr>
        <p:spPr>
          <a:xfrm>
            <a:off x="250920" y="5373720"/>
            <a:ext cx="30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32 Grupo"/>
          <p:cNvGrpSpPr/>
          <p:nvPr/>
        </p:nvGrpSpPr>
        <p:grpSpPr>
          <a:xfrm>
            <a:off x="6013440" y="2997360"/>
            <a:ext cx="2519280" cy="1368360"/>
            <a:chOff x="6013440" y="2997360"/>
            <a:chExt cx="2519280" cy="1368360"/>
          </a:xfrm>
        </p:grpSpPr>
        <p:sp>
          <p:nvSpPr>
            <p:cNvPr id="78" name="AutoShape 1">
              <a:hlinkClick r:id="rId4" action="ppaction://hlinksldjump"/>
            </p:cNvPr>
            <p:cNvSpPr/>
            <p:nvPr/>
          </p:nvSpPr>
          <p:spPr>
            <a:xfrm>
              <a:off x="6013440" y="2997360"/>
              <a:ext cx="2519280" cy="1368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17">
              <a:hlinkClick r:id="rId5" action="ppaction://hlinksldjump"/>
            </p:cNvPr>
            <p:cNvSpPr/>
            <p:nvPr/>
          </p:nvSpPr>
          <p:spPr>
            <a:xfrm>
              <a:off x="6156000" y="3141000"/>
              <a:ext cx="2305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CON PARTES ESPECIALIZADAS EN LA 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235760" cy="42562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 Box 8"/>
          <p:cNvSpPr/>
          <p:nvPr/>
        </p:nvSpPr>
        <p:spPr>
          <a:xfrm>
            <a:off x="971640" y="141912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ponjas y los cnidarios expulsan los desechos a través de la superficie de su cuerpo, pues la mayor parte de sus células están en contacto directo con el me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00000" y="9079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partes especializadas en la excre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55640" y="54072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nidario (anémona) carente de aparato excre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3673440" cy="314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3048120" cy="36716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95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8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9"/>
          <p:cNvSpPr/>
          <p:nvPr/>
        </p:nvSpPr>
        <p:spPr>
          <a:xfrm>
            <a:off x="971640" y="1419120"/>
            <a:ext cx="72723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xcreción se lleva a cabo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órganos respirato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órganos excr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900000" y="9079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partes especializadas en la excre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900000" y="285264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respiratorio de un mamíf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093080" y="4941720"/>
            <a:ext cx="172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excretor (tubos de Malpighi) de un artróp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020000" y="2276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ubos de Malpigh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6560640" y="2798640"/>
            <a:ext cx="51300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6049440" y="2798640"/>
            <a:ext cx="10242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H="1">
            <a:off x="6167520" y="2798640"/>
            <a:ext cx="90648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1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7"/>
          <p:cNvSpPr/>
          <p:nvPr/>
        </p:nvSpPr>
        <p:spPr>
          <a:xfrm>
            <a:off x="971640" y="14191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órganos respiratorios cumplen con una función excretora al expulsar el dióxido de carbono de la respi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9079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xcreción en órganos respira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3087720" cy="3959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5940360" y="3573360"/>
            <a:ext cx="935280" cy="21600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875640" y="35226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CO</a:t>
            </a:r>
            <a:r>
              <a:rPr b="1" lang="es-ES" sz="1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258920" y="4941720"/>
            <a:ext cx="165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Órganos respiratorios (tráqueas) de un artróp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excrec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8"/>
          <p:cNvSpPr/>
          <p:nvPr/>
        </p:nvSpPr>
        <p:spPr>
          <a:xfrm>
            <a:off x="900000" y="765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xcreción en órganos excre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664000" cy="28987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148360" y="522936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iñones</a:t>
            </a:r>
            <a:br>
              <a:rPr sz="1600"/>
            </a:b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de un rept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11280" y="1413000"/>
            <a:ext cx="72723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órganos excretores filtran los líquidos circulantes, recogiendo los desechos que transportan, para luego expulsar estos desechos al exterior o bien al final del aparato digestivo, para que salgan junto con los restos de alimentos no diger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órganos excreto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Riñones (vertebr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Túbulos de Malpighi (insectos y miriápo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Nefridios (muchos invertebr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Glándulas antenales o maxilares (crustáce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8:53Z</dcterms:modified>
  <cp:revision>15</cp:revision>
  <dc:subject/>
  <dc:title>Presentación de PowerPoint</dc:title>
</cp:coreProperties>
</file>